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2AF-FFE5-4CCE-8EF3-95C38F93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C16-7E84-4C9A-90E5-8E50F2CD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B59-BAD3-444F-9D61-F48BDE5E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649-C12A-4DF0-BE91-EC47A661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D18-7E40-42B8-9E9A-6F710C2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92B-73FA-478A-B4DF-4D49E5D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9BC-4787-4DE7-8280-9A52BF8B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665-7B3E-4E07-ABAD-EC74ABFA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ADF-6C3B-4A1E-BA6E-8F605751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8CE-6BB7-49A2-A309-3C409E8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6E9-4502-476F-85F6-5261D74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4A7-99E5-4FF1-B14E-94B811D4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87E9-CDAF-4FE6-8E58-50A2FDF8A0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To Tell Th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25621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 try some of the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049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30440" y="3411360"/>
            <a:ext cx="2303640" cy="223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332080"/>
            <a:ext cx="418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re is an analogue 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76760" cy="5057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64000" y="2637000"/>
            <a:ext cx="2232000" cy="22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big hour hand shows the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43280" y="2060640"/>
            <a:ext cx="7308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867280" y="2060640"/>
            <a:ext cx="865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of these little sections is one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7340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re are 60 minutes in one h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407664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ection between each of the numbers is 5 minutes- practise counting around the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012000" y="4437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6300360" y="3789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e little h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76760" cy="505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643280" y="2133360"/>
            <a:ext cx="73080" cy="17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860640"/>
            <a:ext cx="72072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360" y="2708280"/>
            <a:ext cx="201600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2060640"/>
            <a:ext cx="194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little hand measures the hour and uses the numbers on the clock face- it moves VERY slowl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6000" y="5084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195640" y="4508280"/>
            <a:ext cx="100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36572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 takes a whole hour to move between the two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to tell the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676760" cy="5057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628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e use the information from both the big and little han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16360" y="2060280"/>
            <a:ext cx="0" cy="18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155736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big hand is on the zero it means it is the start of the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708360" y="3933720"/>
            <a:ext cx="100800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422100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ittle hand has reached the 8 so we are in the eighth h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4000" y="501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at is the tim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clo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4500720" y="321264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3789360"/>
            <a:ext cx="3585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79680" y="160020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564000" y="2852640"/>
            <a:ext cx="2016000" cy="20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64000" y="3284640"/>
            <a:ext cx="10792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211280" y="3860640"/>
            <a:ext cx="36036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nam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00720" y="3789360"/>
            <a:ext cx="143964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0720" y="3789360"/>
            <a:ext cx="3585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177336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ometimes call this quarter past because the big hand has gone a quarter of the way 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clo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00720" y="3789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51280" y="3789360"/>
            <a:ext cx="64944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844640"/>
            <a:ext cx="230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ll this half past because the big hand has gone half way round and the little hand is gone halfway between the two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5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about this clo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2637000"/>
            <a:ext cx="2303640" cy="2232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18464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3276720" y="3789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427280" y="2781360"/>
            <a:ext cx="7308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797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ll this quarter to because the big hand only has a quarter turn left until it gets to the next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5661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is would be quarter to 12, because there is a quarter turn before 12 o’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47:20Z</dcterms:created>
  <dc:creator>Teacher</dc:creator>
  <dc:description/>
  <dc:language>en-US</dc:language>
  <cp:lastModifiedBy>Wee</cp:lastModifiedBy>
  <dcterms:modified xsi:type="dcterms:W3CDTF">2012-11-27T06:51:38Z</dcterms:modified>
  <cp:revision>2</cp:revision>
  <dc:subject/>
  <dc:title>How To Tell The Time</dc:title>
</cp:coreProperties>
</file>